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ABD-4520-40D8-B3C5-A4572957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723-775E-4A24-9062-51592ACB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763-D99B-4A7B-82C2-191C8517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E92-E0B2-4003-B9BE-1232C45D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629F-F1B1-4222-930F-732B6D2A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C35A-1F56-417C-8001-CC594EF8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EF4-269E-4802-A3F3-EBA7C054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0635-4E8B-499C-8F06-DDA16E34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848A-61FB-4A58-96B3-448425BA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05E-AB4E-4762-BD80-1ECBC91A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8CB4-CB88-4171-8566-FA73BAC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B49-18E7-4EDB-9275-76245B84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E19-533E-4F75-A7A1-5383527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2F14-E332-427A-AAE0-6913BC3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CC2-2DE9-4D83-9F53-9A7AC0C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7104-53A0-45DF-A56B-6D8D9A93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BB4F-3D7B-40E2-AF2F-D06BE14D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AA1-2272-45A7-897C-BB5BC944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16D-6E6A-4494-B29D-7BDC1706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11A-F995-469F-99DD-D524D6B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6E9-3018-4077-B11F-A0210E9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7F2-208A-4330-B9EA-A401CFE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816-5E07-4E73-BD88-E225E687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B7D-C36D-4378-8E45-F301455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22E1-0C8A-4F22-AD80-36141A2C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8E1-961F-439B-A546-62D0CBCD1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510552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5334120"/>
            <a:ext cx="9220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arto favori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440240" y="2590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716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6688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5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040440" y="3886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12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Qué com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uarto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2805120" cy="28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6580080" y="102888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3429000" y="941400"/>
            <a:ext cx="2133720" cy="2030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2"/>
          <p:cNvSpPr/>
          <p:nvPr/>
        </p:nvSpPr>
        <p:spPr>
          <a:xfrm>
            <a:off x="609480" y="29718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342900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m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6705720" y="3230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but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411360" y="57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tele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09480" y="62085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me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411960" y="55278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tocador de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3579840" y="3916440"/>
            <a:ext cx="183204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795240" y="3749760"/>
            <a:ext cx="1752840" cy="1950840"/>
          </a:xfrm>
          <a:prstGeom prst="rect">
            <a:avLst/>
          </a:prstGeom>
          <a:ln w="0">
            <a:noFill/>
          </a:ln>
        </p:spPr>
      </p:pic>
      <p:cxnSp>
        <p:nvCxnSpPr>
          <p:cNvPr id="102" name="Straight Arrow Connector 25"/>
          <p:cNvCxnSpPr/>
          <p:nvPr/>
        </p:nvCxnSpPr>
        <p:spPr>
          <a:xfrm>
            <a:off x="1645920" y="5164200"/>
            <a:ext cx="1080" cy="100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3" name="Picture 6" descr=""/>
          <p:cNvPicPr/>
          <p:nvPr/>
        </p:nvPicPr>
        <p:blipFill>
          <a:blip r:embed="rId6"/>
          <a:stretch/>
        </p:blipFill>
        <p:spPr>
          <a:xfrm>
            <a:off x="6081840" y="4495680"/>
            <a:ext cx="2871720" cy="858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br>
              <a:rPr sz="4800"/>
            </a:b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3000" y="685800"/>
            <a:ext cx="23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99"/>
                </a:solidFill>
                <a:latin typeface="Arial"/>
              </a:rPr>
              <a:t>En la sala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367200" y="248760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sol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42960" y="5835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u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6985080" y="423720"/>
            <a:ext cx="1979640" cy="2200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7240320" y="27781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ua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33080" y="60199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2"/>
          <a:stretch/>
        </p:blipFill>
        <p:spPr>
          <a:xfrm>
            <a:off x="2971800" y="81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4"/>
          <p:cNvSpPr/>
          <p:nvPr/>
        </p:nvSpPr>
        <p:spPr>
          <a:xfrm>
            <a:off x="2910960" y="25002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3"/>
          <a:stretch/>
        </p:blipFill>
        <p:spPr>
          <a:xfrm>
            <a:off x="5181480" y="100188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6"/>
          <p:cNvSpPr/>
          <p:nvPr/>
        </p:nvSpPr>
        <p:spPr>
          <a:xfrm>
            <a:off x="5072760" y="27288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oj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4"/>
          <a:stretch/>
        </p:blipFill>
        <p:spPr>
          <a:xfrm>
            <a:off x="487440" y="51912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133200" y="3746520"/>
            <a:ext cx="245772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6"/>
          <a:stretch/>
        </p:blipFill>
        <p:spPr>
          <a:xfrm>
            <a:off x="6567480" y="3603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7"/>
          <a:stretch/>
        </p:blipFill>
        <p:spPr>
          <a:xfrm>
            <a:off x="3327480" y="3746520"/>
            <a:ext cx="2562120" cy="1781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3896280" y="5862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dormitorio/ la re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á</a:t>
            </a: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mar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09480" y="1552680"/>
            <a:ext cx="2133720" cy="172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992880" y="29718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1219320" cy="1096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2898000" y="30481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elé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146720" y="3276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ó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1219320" cy="1762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536040" y="5715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2536560" y="57913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5"/>
          <a:stretch/>
        </p:blipFill>
        <p:spPr>
          <a:xfrm>
            <a:off x="4724280" y="4724280"/>
            <a:ext cx="1408320" cy="1524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4651560" y="62485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elu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"/>
          <p:cNvPicPr/>
          <p:nvPr/>
        </p:nvPicPr>
        <p:blipFill>
          <a:blip r:embed="rId6"/>
          <a:stretch/>
        </p:blipFill>
        <p:spPr>
          <a:xfrm>
            <a:off x="6905520" y="1143000"/>
            <a:ext cx="1757520" cy="2085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5"/>
          <p:cNvSpPr/>
          <p:nvPr/>
        </p:nvSpPr>
        <p:spPr>
          <a:xfrm>
            <a:off x="6781680" y="91440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7"/>
          <a:stretch/>
        </p:blipFill>
        <p:spPr>
          <a:xfrm>
            <a:off x="4952880" y="2590920"/>
            <a:ext cx="1438560" cy="1695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"/>
          <p:cNvPicPr/>
          <p:nvPr/>
        </p:nvPicPr>
        <p:blipFill>
          <a:blip r:embed="rId8"/>
          <a:stretch/>
        </p:blipFill>
        <p:spPr>
          <a:xfrm>
            <a:off x="5494320" y="1676520"/>
            <a:ext cx="982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"/>
          <p:cNvPicPr/>
          <p:nvPr/>
        </p:nvPicPr>
        <p:blipFill>
          <a:blip r:embed="rId9"/>
          <a:stretch/>
        </p:blipFill>
        <p:spPr>
          <a:xfrm>
            <a:off x="5029200" y="2081160"/>
            <a:ext cx="522360" cy="738360"/>
          </a:xfrm>
          <a:prstGeom prst="rect">
            <a:avLst/>
          </a:prstGeom>
          <a:ln w="0">
            <a:noFill/>
          </a:ln>
        </p:spPr>
      </p:pic>
      <p:sp>
        <p:nvSpPr>
          <p:cNvPr id="139" name="Line 19"/>
          <p:cNvSpPr/>
          <p:nvPr/>
        </p:nvSpPr>
        <p:spPr>
          <a:xfrm flipH="1" flipV="1">
            <a:off x="4648320" y="1599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6095880" y="12949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6632640" y="106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ám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3845160" y="12333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loj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4575600" y="42814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4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1074960" cy="1338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"/>
          <p:cNvPicPr/>
          <p:nvPr/>
        </p:nvPicPr>
        <p:blipFill>
          <a:blip r:embed="rId11"/>
          <a:stretch/>
        </p:blipFill>
        <p:spPr>
          <a:xfrm>
            <a:off x="6934320" y="3886200"/>
            <a:ext cx="8157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12"/>
          <a:stretch/>
        </p:blipFill>
        <p:spPr>
          <a:xfrm>
            <a:off x="7696080" y="4876920"/>
            <a:ext cx="866880" cy="1319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13"/>
          <a:stretch/>
        </p:blipFill>
        <p:spPr>
          <a:xfrm>
            <a:off x="7010280" y="4952880"/>
            <a:ext cx="727200" cy="1128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8"/>
          <p:cNvSpPr/>
          <p:nvPr/>
        </p:nvSpPr>
        <p:spPr>
          <a:xfrm>
            <a:off x="7197120" y="6338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f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La cocin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63520" y="380880"/>
            <a:ext cx="1488960" cy="1914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3680" y="2286000"/>
            <a:ext cx="22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nev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refrigerado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1162080" cy="1238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2295720" y="220968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stu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4361040" y="1066680"/>
            <a:ext cx="1415880" cy="1600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4346640" y="2590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6629400" y="838080"/>
            <a:ext cx="1219320" cy="1524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6174360" y="2286000"/>
            <a:ext cx="27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est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(tacho)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bas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5"/>
          <a:stretch/>
        </p:blipFill>
        <p:spPr>
          <a:xfrm>
            <a:off x="228600" y="3276720"/>
            <a:ext cx="97164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153360" y="460224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va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6"/>
          <a:stretch/>
        </p:blipFill>
        <p:spPr>
          <a:xfrm>
            <a:off x="1905120" y="3276720"/>
            <a:ext cx="1419120" cy="1114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1830240" y="4449600"/>
            <a:ext cx="15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l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3886920" y="4446720"/>
            <a:ext cx="128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ol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" descr=""/>
          <p:cNvPicPr/>
          <p:nvPr/>
        </p:nvPicPr>
        <p:blipFill>
          <a:blip r:embed="rId7"/>
          <a:stretch/>
        </p:blipFill>
        <p:spPr>
          <a:xfrm>
            <a:off x="3809880" y="3200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8"/>
          <a:stretch/>
        </p:blipFill>
        <p:spPr>
          <a:xfrm>
            <a:off x="7248600" y="3124080"/>
            <a:ext cx="120960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8"/>
          <p:cNvSpPr/>
          <p:nvPr/>
        </p:nvSpPr>
        <p:spPr>
          <a:xfrm>
            <a:off x="6914880" y="4495680"/>
            <a:ext cx="192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cubier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9"/>
          <a:stretch/>
        </p:blipFill>
        <p:spPr>
          <a:xfrm>
            <a:off x="304920" y="5181480"/>
            <a:ext cx="1266840" cy="971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"/>
          <p:cNvSpPr/>
          <p:nvPr/>
        </p:nvSpPr>
        <p:spPr>
          <a:xfrm>
            <a:off x="214560" y="615960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ten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"/>
          <p:cNvPicPr/>
          <p:nvPr/>
        </p:nvPicPr>
        <p:blipFill>
          <a:blip r:embed="rId10"/>
          <a:stretch/>
        </p:blipFill>
        <p:spPr>
          <a:xfrm>
            <a:off x="2133720" y="510552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2"/>
          <p:cNvSpPr/>
          <p:nvPr/>
        </p:nvSpPr>
        <p:spPr>
          <a:xfrm>
            <a:off x="1982880" y="6126120"/>
            <a:ext cx="156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cuch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3" descr=""/>
          <p:cNvPicPr/>
          <p:nvPr/>
        </p:nvPicPr>
        <p:blipFill>
          <a:blip r:embed="rId11"/>
          <a:stretch/>
        </p:blipFill>
        <p:spPr>
          <a:xfrm>
            <a:off x="3886200" y="49528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4"/>
          <p:cNvSpPr/>
          <p:nvPr/>
        </p:nvSpPr>
        <p:spPr>
          <a:xfrm>
            <a:off x="3662280" y="613584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uch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5" descr=""/>
          <p:cNvPicPr/>
          <p:nvPr/>
        </p:nvPicPr>
        <p:blipFill>
          <a:blip r:embed="rId12"/>
          <a:stretch/>
        </p:blipFill>
        <p:spPr>
          <a:xfrm>
            <a:off x="5638680" y="4952880"/>
            <a:ext cx="1457280" cy="1067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6"/>
          <p:cNvSpPr/>
          <p:nvPr/>
        </p:nvSpPr>
        <p:spPr>
          <a:xfrm>
            <a:off x="5410800" y="6122880"/>
            <a:ext cx="17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lavapl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7" descr=""/>
          <p:cNvPicPr/>
          <p:nvPr/>
        </p:nvPicPr>
        <p:blipFill>
          <a:blip r:embed="rId13"/>
          <a:stretch/>
        </p:blipFill>
        <p:spPr>
          <a:xfrm>
            <a:off x="7620120" y="4876920"/>
            <a:ext cx="1199880" cy="11998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8"/>
          <p:cNvSpPr/>
          <p:nvPr/>
        </p:nvSpPr>
        <p:spPr>
          <a:xfrm>
            <a:off x="7393320" y="6019920"/>
            <a:ext cx="17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lavado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 pl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4"/>
          <a:stretch/>
        </p:blipFill>
        <p:spPr>
          <a:xfrm>
            <a:off x="5668920" y="3218040"/>
            <a:ext cx="1006560" cy="1137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5"/>
          <p:cNvSpPr/>
          <p:nvPr/>
        </p:nvSpPr>
        <p:spPr>
          <a:xfrm>
            <a:off x="5524560" y="42670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comed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1600200" cy="1276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232640" y="27432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1361880" cy="1362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4045680" y="2895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s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1266840" cy="1295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6406560" y="2971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flo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4"/>
          <a:stretch/>
        </p:blipFill>
        <p:spPr>
          <a:xfrm>
            <a:off x="914400" y="32767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5"/>
          <a:stretch/>
        </p:blipFill>
        <p:spPr>
          <a:xfrm>
            <a:off x="6019920" y="3657600"/>
            <a:ext cx="155232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1683000" y="57913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h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6104160" y="57150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lum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lám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ñ</a:t>
            </a: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812880" y="762120"/>
            <a:ext cx="2054160" cy="22381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069920" y="3051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209680" cy="1765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6411240" y="23623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963720" y="3733920"/>
            <a:ext cx="1779480" cy="2361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807120" y="62485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lava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4"/>
          <a:stretch/>
        </p:blipFill>
        <p:spPr>
          <a:xfrm>
            <a:off x="6095880" y="3124080"/>
            <a:ext cx="2116080" cy="2210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6453720" y="5334120"/>
            <a:ext cx="16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inod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t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5"/>
          <a:stretch/>
        </p:blipFill>
        <p:spPr>
          <a:xfrm>
            <a:off x="3267000" y="2347920"/>
            <a:ext cx="2610000" cy="2162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3661560" y="44989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o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800000"/>
                </a:solidFill>
                <a:latin typeface="Arial"/>
              </a:rPr>
              <a:t>El Tec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009920" y="54100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El Sót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house_with floors"/>
          <p:cNvPicPr/>
          <p:nvPr/>
        </p:nvPicPr>
        <p:blipFill>
          <a:blip r:embed="rId1"/>
          <a:stretch/>
        </p:blipFill>
        <p:spPr>
          <a:xfrm>
            <a:off x="2438280" y="1981080"/>
            <a:ext cx="4362480" cy="4257720"/>
          </a:xfrm>
          <a:prstGeom prst="rect">
            <a:avLst/>
          </a:prstGeom>
          <a:ln w="0">
            <a:noFill/>
          </a:ln>
        </p:spPr>
      </p:pic>
      <p:sp>
        <p:nvSpPr>
          <p:cNvPr id="205" name="Line 5"/>
          <p:cNvSpPr/>
          <p:nvPr/>
        </p:nvSpPr>
        <p:spPr>
          <a:xfrm flipH="1" flipV="1">
            <a:off x="6362640" y="56970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 flipH="1" flipV="1">
            <a:off x="320040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 flipV="1">
            <a:off x="495288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9720" y="1219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Comic Sans MS"/>
              </a:rPr>
              <a:t>El 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9343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Ter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0866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a Azo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4674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 flipV="1">
            <a:off x="6553080" y="25905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629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133360" y="3657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335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El </a:t>
            </a: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Otro</a:t>
            </a: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 Dorm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60948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Comic Sans MS"/>
              </a:rPr>
              <a:t>Más 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9528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133720" y="1752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609480" y="4343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edr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6858000" y="5958000"/>
            <a:ext cx="198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5981760" y="1927080"/>
            <a:ext cx="72396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 flipV="1">
            <a:off x="5638680" y="1738080"/>
            <a:ext cx="99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6400800" y="110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62940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d050"/>
                </a:solidFill>
                <a:latin typeface="Comic Sans MS"/>
              </a:rPr>
              <a:t>La alb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78168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your DREAM APARTMENT FLOOR PL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 YOUR NOTE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label the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0:24:51Z</dcterms:created>
  <dc:creator>Helen Zumaeta</dc:creator>
  <dc:description/>
  <dc:language>en-US</dc:language>
  <cp:lastModifiedBy>Helen Zumaeta</cp:lastModifiedBy>
  <cp:lastPrinted>2014-10-03T19:43:15Z</cp:lastPrinted>
  <dcterms:modified xsi:type="dcterms:W3CDTF">2014-10-03T19:44:58Z</dcterms:modified>
  <cp:revision>27</cp:revision>
  <dc:subject/>
  <dc:title>Me llamo _________ Clase 6 nh/il La fecha es el 10 de marzo del 2011</dc:title>
</cp:coreProperties>
</file>